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7E3-223D-40A3-8BF8-DC566322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048-03B1-41B6-B44C-1861CE9C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94D-09EA-4E08-AFE3-02E9270C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320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320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259-CF0F-4978-A2F5-CE76ABFF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5A4-CA0D-4E16-BE42-F03FE0C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739-3DA1-426A-B4F6-CB00329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E2C-284B-4F91-90B9-C92D5B22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953-DD48-4036-948A-3BA233C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604440"/>
            <a:ext cx="1924524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0FA-371A-48BC-B4D8-0FA1CE5A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12D-1B4B-475B-BBF1-CC355E8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F8F-CB00-46AA-9CC1-328D694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B18-3116-4A07-A9C2-30F388F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17840" indent="-71784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556280" indent="-59868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394720" indent="-4795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350880" indent="-4777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480" y="13768200"/>
            <a:ext cx="67719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556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5C8-C17C-4FAE-BAA6-9752F76B8D30}" type="slidenum">
              <a:rPr b="0" lang="zh-CN" sz="3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7"/>
          <p:cNvSpPr/>
          <p:nvPr/>
        </p:nvSpPr>
        <p:spPr>
          <a:xfrm>
            <a:off x="5477040" y="3844800"/>
            <a:ext cx="10604160" cy="22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182600" y="1274760"/>
            <a:ext cx="187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南省既有住宅加装电梯项目审批流程指导图            总审批时限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工作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9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4"/>
          <p:cNvSpPr/>
          <p:nvPr/>
        </p:nvSpPr>
        <p:spPr>
          <a:xfrm>
            <a:off x="8204040" y="5381640"/>
            <a:ext cx="6061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质量安全监督手续办理和建筑工程施工许可证核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1"/>
          <p:cNvSpPr/>
          <p:nvPr/>
        </p:nvSpPr>
        <p:spPr>
          <a:xfrm>
            <a:off x="16735320" y="3841920"/>
            <a:ext cx="3446640" cy="228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72"/>
          <p:cNvSpPr/>
          <p:nvPr/>
        </p:nvSpPr>
        <p:spPr>
          <a:xfrm>
            <a:off x="16851240" y="5162400"/>
            <a:ext cx="3214800" cy="714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竣工验收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3"/>
          <p:cNvSpPr/>
          <p:nvPr/>
        </p:nvSpPr>
        <p:spPr>
          <a:xfrm>
            <a:off x="16851240" y="4110120"/>
            <a:ext cx="3214800" cy="83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联合验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自然资源与规划、城建档案、消防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53"/>
          <p:cNvSpPr/>
          <p:nvPr/>
        </p:nvSpPr>
        <p:spPr>
          <a:xfrm>
            <a:off x="3083040" y="11115720"/>
            <a:ext cx="1503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该类项目原则上应在湖南省工程建设项目审批管理系统进行办理。审批时限自受理之日起计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虚线框内的事项实行并联审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行政审批、备案和依法由政府组织、委托或购买服务的技术审查、中介服务均计入相应审批事项的审批时限；市政公用服务报装办理时间计入审批总时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3"/>
          <p:cNvSpPr/>
          <p:nvPr/>
        </p:nvSpPr>
        <p:spPr>
          <a:xfrm>
            <a:off x="5810400" y="2787480"/>
            <a:ext cx="6600600" cy="60336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8"/>
          <p:cNvSpPr/>
          <p:nvPr/>
        </p:nvSpPr>
        <p:spPr>
          <a:xfrm>
            <a:off x="5450040" y="7551720"/>
            <a:ext cx="10605960" cy="278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0"/>
          <p:cNvSpPr/>
          <p:nvPr/>
        </p:nvSpPr>
        <p:spPr>
          <a:xfrm>
            <a:off x="5599080" y="8232840"/>
            <a:ext cx="10309320" cy="78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工程建设涉及城市绿地、树木审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1"/>
          <p:cNvSpPr/>
          <p:nvPr/>
        </p:nvSpPr>
        <p:spPr>
          <a:xfrm>
            <a:off x="5610240" y="9231480"/>
            <a:ext cx="10287000" cy="83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工程建设需要拆除、改动、迁移供水、排水与污水处理设施审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即办件，实行告知承诺制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9"/>
          <p:cNvSpPr/>
          <p:nvPr/>
        </p:nvSpPr>
        <p:spPr>
          <a:xfrm>
            <a:off x="6086520" y="7694640"/>
            <a:ext cx="9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、二、三阶段可并联或并行办理的其它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>
            <a:off x="8780400" y="2787480"/>
            <a:ext cx="756756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5"/>
          <p:cNvSpPr/>
          <p:nvPr/>
        </p:nvSpPr>
        <p:spPr>
          <a:xfrm>
            <a:off x="5146560" y="2787480"/>
            <a:ext cx="364500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8674200" y="2793960"/>
            <a:ext cx="215640" cy="5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0"/>
          <p:cNvSpPr/>
          <p:nvPr/>
        </p:nvSpPr>
        <p:spPr>
          <a:xfrm>
            <a:off x="8190000" y="4079880"/>
            <a:ext cx="501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规划许可证核发（含设计方案审查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21"/>
          <p:cNvCxnSpPr/>
          <p:nvPr/>
        </p:nvCxnSpPr>
        <p:spPr>
          <a:xfrm>
            <a:off x="16056000" y="4916160"/>
            <a:ext cx="691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直接连接符 13"/>
          <p:cNvSpPr/>
          <p:nvPr/>
        </p:nvSpPr>
        <p:spPr>
          <a:xfrm>
            <a:off x="1182600" y="6905520"/>
            <a:ext cx="194994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2"/>
          <p:cNvSpPr/>
          <p:nvPr/>
        </p:nvSpPr>
        <p:spPr>
          <a:xfrm>
            <a:off x="5035680" y="2787480"/>
            <a:ext cx="11312280" cy="60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一阶段（用地规划许可阶段）、第二阶段（工程建设许可阶段）和第三阶段（施工许可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8051760" y="4799160"/>
            <a:ext cx="5286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施工图设计文件审查（含消防）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+3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5450040" y="4606920"/>
            <a:ext cx="10605600" cy="714240"/>
            <a:chOff x="5450040" y="4606920"/>
            <a:chExt cx="10605600" cy="714240"/>
          </a:xfrm>
        </p:grpSpPr>
        <p:sp>
          <p:nvSpPr>
            <p:cNvPr id="64" name="直接连接符 23"/>
            <p:cNvSpPr/>
            <p:nvPr/>
          </p:nvSpPr>
          <p:spPr>
            <a:xfrm>
              <a:off x="5513760" y="460692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2"/>
            <p:cNvSpPr/>
            <p:nvPr/>
          </p:nvSpPr>
          <p:spPr>
            <a:xfrm>
              <a:off x="5450040" y="532116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文本框 14"/>
          <p:cNvSpPr/>
          <p:nvPr/>
        </p:nvSpPr>
        <p:spPr>
          <a:xfrm>
            <a:off x="1506600" y="3889440"/>
            <a:ext cx="3360600" cy="22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"/>
          <p:cNvSpPr/>
          <p:nvPr/>
        </p:nvSpPr>
        <p:spPr>
          <a:xfrm>
            <a:off x="1608120" y="4272120"/>
            <a:ext cx="3157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申请人在正式报建前需征求所在单位全体业主意见，业主意见征询完成达成一致后，业主应当协商确定增设电梯项目的承建单位，承建单位拟制增设电梯初步方案，向所在社区申请增设电梯事项公示等报建准备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边形 15"/>
          <p:cNvSpPr/>
          <p:nvPr/>
        </p:nvSpPr>
        <p:spPr>
          <a:xfrm>
            <a:off x="1504800" y="2755800"/>
            <a:ext cx="3630600" cy="603360"/>
          </a:xfrm>
          <a:custGeom>
            <a:avLst/>
            <a:gdLst>
              <a:gd name="textAreaLeft" fmla="*/ 0 w 3630600"/>
              <a:gd name="textAreaRight" fmla="*/ 3630960 w 3630600"/>
              <a:gd name="textAreaTop" fmla="*/ 0 h 603360"/>
              <a:gd name="textAreaBottom" fmla="*/ 60336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意见协同阶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1"/>
          <p:cNvCxnSpPr/>
          <p:nvPr/>
        </p:nvCxnSpPr>
        <p:spPr>
          <a:xfrm>
            <a:off x="4874760" y="49161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页脚占位符 30"/>
          <p:cNvSpPr/>
          <p:nvPr/>
        </p:nvSpPr>
        <p:spPr>
          <a:xfrm>
            <a:off x="7305840" y="13768560"/>
            <a:ext cx="67719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宋体"/>
              </a:rPr>
              <a:t>— 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34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04:13:00Z</dcterms:created>
  <dc:creator>xuhao</dc:creator>
  <dc:description/>
  <dc:language>en-US</dc:language>
  <cp:lastModifiedBy>贺雪莲 172.16.19.111</cp:lastModifiedBy>
  <dcterms:modified xsi:type="dcterms:W3CDTF">2023-07-28T08:16:25Z</dcterms:modified>
  <cp:revision>3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4D93CE853044FB3BDCB9C99533CDDBF</vt:lpwstr>
  </property>
  <property fmtid="{D5CDD505-2E9C-101B-9397-08002B2CF9AE}" pid="3" name="KSOProductBuildVer">
    <vt:lpwstr>2052-11.1.0.13703</vt:lpwstr>
  </property>
</Properties>
</file>